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4E8C-8462-42A0-B389-1147FB91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0B3B-B8DF-4A28-8E92-035CAFBC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56B1C-4476-4C97-96AB-452E9478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C9D4C-CF31-4F3D-9F92-CAD8C8A3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9AFEF-710B-43FF-A07E-D1BDC419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6A898-5BF5-4821-84CB-70C52595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FD40A-CB4E-4EE7-A449-68305D0F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44643-C3FA-40A6-B03B-41B89FFF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9FC0E-0A8B-48A3-9B04-029EC719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BFD24-6F69-4891-ADEF-1E7CEF53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7CE1A-F13B-47C6-A8C0-D740E117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479D6-3057-4D84-A17D-C8737454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CB5-4344-43BA-AB65-8B0C629D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5846B-7EF4-40F3-8E93-29C837AB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8A817-AB2B-4BD2-B890-D01382B1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A8089-1E1B-43A2-97E3-57324D56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6F843-798D-4BFA-8800-0C95CF76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8473B-8C24-4398-A1FE-A756BB0E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286CA-B9B7-492E-BB89-8574CD14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E5D7A-6460-491E-B57B-839182E5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08332-C999-4130-90EC-EEEECE8F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DF29F-1263-46B6-8484-37EF4397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0AAF3-B9A2-46B4-965D-7523C902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BA6B-9E50-49B4-B72A-4B26E0FA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30F74D-A1E4-4E9E-B939-D3E71BDF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6FD6E-C6C6-4C03-8329-27C06AB2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CFE4C-7F92-4777-994B-027498D5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71E77-F8F5-454C-9BF4-BC2F4B36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67B63-BB90-4842-8BA7-6C611EB6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33F8E-040B-48FD-BF30-93C3D68E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80A32-AEA6-45B7-81BF-36357555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77CC90-CB4D-489E-A14B-B75E83FD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88DA7-9F4D-4F05-9B01-D2BC6387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57A2C-E42C-4A66-884C-A94302F3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9CCC-7113-4A70-AB27-09D39948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7E09E-81E1-4CF6-8D83-7F624E29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F9382-4ECB-482E-87D0-4974830B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4AC89B-D3DF-4D6C-9FC6-32C147FE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917D5-57DE-4BBC-BD66-5594A527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28CD9-0B44-4A51-8FA7-EEC3EC63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DF206-B7D0-4D2D-B0D7-20466F0B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97DB4-953F-42F8-9E76-C4AEB23B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D7AE9-CA2F-457C-B8B4-08BAD674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0E1E6-6239-430F-8720-FE8C4E18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7D612-E90F-4501-880B-4402D8EF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EDB8F-C43F-48CC-99FF-730A761A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1F1492-3030-497C-8869-E08F7716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6FA8B-7B7A-47AF-B682-B0690F40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D369A-8624-48A7-823C-213995DF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3389C-865C-4933-84F6-67F46C015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E4EE8-E92A-4767-BB1F-C1F323A97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3B78-9956-42A9-AAB8-AC7EC4E1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9A7B-AAD6-4A15-954A-4CBD9F05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9DA8-E329-4AC7-948E-D62C261E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9737-DB86-4643-8E23-CD805A7F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0547-471F-4F60-9212-DEA569C0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CD40-3F32-4D19-9428-3A9F915A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B648-6E11-47CB-916E-A3EC15CB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6DE6-2C83-49F7-8213-18CC0E07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60A1-772C-4831-824D-EDD8A895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EB97-5667-4E22-A645-9976F69D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920C-9D86-4B86-A7FC-441215CE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99E20-F1D3-4A69-B159-229D3879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1ABB1-1C39-46E8-AEB4-79E36AE9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1BB5D-AA27-4337-BAE0-F764B60B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9C28A-8343-45DD-B6B7-C7370914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70756-299C-4079-99DB-EE63AA07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D95F-4B7B-4F4D-B9F3-BE807003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BF6BB-6371-4D24-A865-FD0AF9C9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F272E-1E25-440E-B0FC-2ECF39F0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4BD8D-3600-4EA5-9FE3-FF122214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2180F-6240-4EF5-80FB-18F963AB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201A8-C7EA-461E-8312-3CC3CCCB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0BB28-56B1-4736-B6B0-2A9329B5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CCFBC-B548-442A-9818-FF9513F7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08532-67F5-477C-B50E-7CFE88A1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D9D19-FDC1-488C-8CA7-DEE5ED5E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62A61-EDE5-4F30-937E-4ADBF61B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6B39-45FE-4F24-B18E-F55837FE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89743-4AEA-4EAF-8C67-C2E9C51A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FFB65-034D-434B-B251-DEBC69E3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4255F-D2FD-48D0-9F08-426AD773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75A15-FA6E-44A3-98EF-4B707D31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8C1BF-4C99-4406-AADB-189DEF21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A0756-5EB9-4FD5-9BC8-8B0FF9EF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E7B14-43D7-419A-A491-44143C5C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840C4-8931-4B92-9C98-89B091B9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2A4E2-DFDD-4E04-A747-5EF8F227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14BF1-98FA-43AD-8844-C0F9CB97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6826-ED4B-4E98-B2FE-B83B721A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61091-ACBE-49B9-A352-7CA7816F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D2113-627D-414F-A0D0-5363E7E9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A768B-FADD-46A1-8EC3-69411404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78B1C-C788-45ED-AECF-11D8DB33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B685E-95C8-44A5-91A0-70C9A41B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43E26-3DAE-4A36-B60E-8448C693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E3302-5F98-4867-9F58-AB2483DF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3081B-988F-49AD-8509-8E479432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95363-B8E8-41A1-A202-792BAE61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363DB-941D-443E-91FB-A1F7C0D65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F3AB-2580-4218-8781-EB2D19C3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2512F-1736-4C5C-84FE-88E121F5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A4F32-1E14-42CE-9CC7-BD7ED965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00B60-5D9B-4F91-A5C9-ED7D91E0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2653D-3D9A-46C2-BB2B-0302FFE2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5CE5F-5F20-4546-8EB8-792E474C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3A4E2-5629-4563-B98D-AFED79B0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BDDDC-3EDC-4E34-A798-3E7AA5B6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4B5CD-3F71-489B-A8EC-33BA49C6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B9E64-3C27-4B78-90A5-5AE8609B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2DDBC-46B4-46F0-A2A2-F8C56E4E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B720-5205-4768-A241-4C1BE9CC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22608-8310-4DCD-B989-B4F142A1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8E1D9-5DD7-42BB-A8D3-0D2954F5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6A7E5-655B-4FF3-B80E-42324653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D80A5-1CC1-4595-A76B-CF0F5D23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BC935-ADC5-42B3-AD19-EACEEC8A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6310E-59FD-4779-BF48-D1C44A4B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FBECF-2469-4D00-8DE0-DA8D4E2A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8F79C-1610-489F-8F03-33B3A6E7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BEF0F-AFCC-4772-A8CB-0B720EEE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20107-A52B-4E56-91E7-C7FCC648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782-F72D-4498-BF45-F4B6BD2D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59B63-8607-4CE1-A292-C63E3546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2FECC-0F62-4B38-8494-182CE35A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BE807-C34D-4E7F-A94B-D65430BA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B1A87-2038-4547-AC6E-77034B0C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DB172-E289-4615-BC7D-A7664178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D8AB4-492B-4579-BDF7-0580C8CA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B3BC4-A442-4EC1-80CB-3F6F5186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4BCAA-0712-424D-9C80-3EB67A79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92D2F-A2D5-4C9A-99E8-ED4210CC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474A4-EE1C-45DE-B380-CAD65AB3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911-0B5F-41BD-B65C-CC9A9BE9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4F008-BBE0-474F-B3A3-990F393A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E568C-5562-448F-8422-234AA063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B4554-C6E3-4217-93E8-C34218E8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B949B-7740-43C0-943E-59D08B24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F9D7F-4B47-4A2B-83EB-00633361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3BA40-BC8D-4E81-869A-AD5ECCF1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24812-6FDC-4F02-B1A3-7E8A9728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6694B-138C-4045-B9EE-4435EFE5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97F66-A14A-4797-A1A2-8EC3AEFC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8B70E-AD0E-45BE-82A7-3E78EBCA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7889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7890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7891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7892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7893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7894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7895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783E-B738-417B-8D07-9FF2FFAF223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2D1B-41EE-4871-8EF4-A72C48D9598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974F-761D-43E5-954B-7A16EC52E4D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F18F-C31E-444F-B8C6-A028A664185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8913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38914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8915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8916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8917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8918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8919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97E3-FFFB-4332-A05E-A02044C1B8D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411A-DE4C-4B09-BD5F-D181D1CF387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C5C3-AA3A-4633-864A-31FD1EADC1D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B214-04BD-4F27-B3C4-E671EF147D1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09AD-B9FC-4C68-92CB-A5F34E72DBC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2B50-9E56-4F39-AB7B-1A8FABF79CF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519B-B212-4809-976F-7570F330201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55D1-DEA6-4228-A31C-AA80764AE30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1449360" y="1247760"/>
            <a:ext cx="605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15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大禹治水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07" name="图片 2" descr=""/>
          <p:cNvPicPr/>
          <p:nvPr/>
        </p:nvPicPr>
        <p:blipFill>
          <a:blip r:embed="rId1"/>
          <a:stretch/>
        </p:blipFill>
        <p:spPr>
          <a:xfrm>
            <a:off x="2214720" y="2103480"/>
            <a:ext cx="4714560" cy="54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矩形 5"/>
          <p:cNvSpPr/>
          <p:nvPr/>
        </p:nvSpPr>
        <p:spPr>
          <a:xfrm>
            <a:off x="395280" y="1700280"/>
            <a:ext cx="8272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洪水    毒蛇    猛兽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灾难    消退    继续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农业    恢复    耕种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矩形 1"/>
          <p:cNvSpPr/>
          <p:nvPr/>
        </p:nvSpPr>
        <p:spPr>
          <a:xfrm>
            <a:off x="971640" y="148428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大禹治水的结果怎样</a:t>
            </a:r>
            <a:r>
              <a:rPr b="0" i="1" lang="en-US" sz="54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?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矩形 3"/>
          <p:cNvSpPr/>
          <p:nvPr/>
        </p:nvSpPr>
        <p:spPr>
          <a:xfrm>
            <a:off x="1341360" y="2637000"/>
            <a:ext cx="653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洪水被制服了，老百姓过上了安定的日子，大家非常感激这位治水的伟大英雄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矩形 1"/>
          <p:cNvSpPr/>
          <p:nvPr/>
        </p:nvSpPr>
        <p:spPr>
          <a:xfrm>
            <a:off x="611280" y="1628640"/>
            <a:ext cx="79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很久很久以前，洪水经常泛滥。大水淹没了田地，冲毁了房屋，毒蛇猛兽到处伤害牲畜和百姓，人们的生活痛苦极了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21" name="墨迹 2" descr=""/>
          <p:cNvPicPr/>
          <p:nvPr/>
        </p:nvPicPr>
        <p:blipFill>
          <a:blip r:embed="rId1"/>
          <a:stretch/>
        </p:blipFill>
        <p:spPr>
          <a:xfrm>
            <a:off x="919080" y="3259080"/>
            <a:ext cx="7101000" cy="103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图片 2" descr=""/>
          <p:cNvPicPr/>
          <p:nvPr/>
        </p:nvPicPr>
        <p:blipFill>
          <a:blip r:embed="rId1"/>
          <a:stretch/>
        </p:blipFill>
        <p:spPr>
          <a:xfrm>
            <a:off x="179280" y="2924280"/>
            <a:ext cx="2684520" cy="3004920"/>
          </a:xfrm>
          <a:prstGeom prst="rect">
            <a:avLst/>
          </a:prstGeom>
          <a:ln w="0">
            <a:noFill/>
          </a:ln>
        </p:spPr>
      </p:pic>
      <p:sp>
        <p:nvSpPr>
          <p:cNvPr id="623" name="矩形 6"/>
          <p:cNvSpPr/>
          <p:nvPr/>
        </p:nvSpPr>
        <p:spPr>
          <a:xfrm>
            <a:off x="2781360" y="1557360"/>
            <a:ext cx="530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对比父子两人治水的结果， 一个失败，一个成功，你有什么疑问？大禹治水为什么会成功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4" name="矩形 1"/>
          <p:cNvSpPr/>
          <p:nvPr/>
        </p:nvSpPr>
        <p:spPr>
          <a:xfrm>
            <a:off x="5716800" y="260280"/>
            <a:ext cx="205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2-3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自然段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图片 2" descr=""/>
          <p:cNvPicPr/>
          <p:nvPr/>
        </p:nvPicPr>
        <p:blipFill>
          <a:blip r:embed="rId1"/>
          <a:srcRect l="0" t="0" r="2078" b="13125"/>
          <a:stretch/>
        </p:blipFill>
        <p:spPr>
          <a:xfrm>
            <a:off x="311040" y="3284640"/>
            <a:ext cx="5208840" cy="2808360"/>
          </a:xfrm>
          <a:prstGeom prst="rect">
            <a:avLst/>
          </a:prstGeom>
          <a:ln w="0">
            <a:noFill/>
          </a:ln>
        </p:spPr>
      </p:pic>
      <p:sp>
        <p:nvSpPr>
          <p:cNvPr id="626" name="矩形 6"/>
          <p:cNvSpPr/>
          <p:nvPr/>
        </p:nvSpPr>
        <p:spPr>
          <a:xfrm>
            <a:off x="2268360" y="1484280"/>
            <a:ext cx="5832720" cy="91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他只知道筑坝挡水，九年过去了，洪水仍然没有消退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图片 1" descr=""/>
          <p:cNvPicPr/>
          <p:nvPr/>
        </p:nvPicPr>
        <p:blipFill>
          <a:blip r:embed="rId1"/>
          <a:stretch/>
        </p:blipFill>
        <p:spPr>
          <a:xfrm>
            <a:off x="3276720" y="2884320"/>
            <a:ext cx="5616360" cy="3384720"/>
          </a:xfrm>
          <a:prstGeom prst="rect">
            <a:avLst/>
          </a:prstGeom>
          <a:ln w="0">
            <a:noFill/>
          </a:ln>
        </p:spPr>
      </p:pic>
      <p:sp>
        <p:nvSpPr>
          <p:cNvPr id="628" name="矩形 6"/>
          <p:cNvSpPr/>
          <p:nvPr/>
        </p:nvSpPr>
        <p:spPr>
          <a:xfrm>
            <a:off x="900000" y="1341360"/>
            <a:ext cx="532764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禹吸取了鲧治水失败的教训，采用疏导的办法治水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图片 2" descr=""/>
          <p:cNvPicPr/>
          <p:nvPr/>
        </p:nvPicPr>
        <p:blipFill>
          <a:blip r:embed="rId1"/>
          <a:stretch/>
        </p:blipFill>
        <p:spPr>
          <a:xfrm>
            <a:off x="1519200" y="1341360"/>
            <a:ext cx="6050160" cy="2879640"/>
          </a:xfrm>
          <a:prstGeom prst="rect">
            <a:avLst/>
          </a:prstGeom>
          <a:ln w="0">
            <a:noFill/>
          </a:ln>
        </p:spPr>
      </p:pic>
      <p:sp>
        <p:nvSpPr>
          <p:cNvPr id="630" name="矩形 6"/>
          <p:cNvSpPr/>
          <p:nvPr/>
        </p:nvSpPr>
        <p:spPr>
          <a:xfrm>
            <a:off x="971640" y="4254480"/>
            <a:ext cx="740088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他和千千万万的人一起，开通了很多河道，让洪水通过河道，最后流到大海里去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图片 3" descr=""/>
          <p:cNvPicPr/>
          <p:nvPr/>
        </p:nvPicPr>
        <p:blipFill>
          <a:blip r:embed="rId1"/>
          <a:stretch/>
        </p:blipFill>
        <p:spPr>
          <a:xfrm>
            <a:off x="2268360" y="1116000"/>
            <a:ext cx="6572520" cy="4753080"/>
          </a:xfrm>
          <a:prstGeom prst="rect">
            <a:avLst/>
          </a:prstGeom>
          <a:ln w="0">
            <a:noFill/>
          </a:ln>
        </p:spPr>
      </p:pic>
      <p:sp>
        <p:nvSpPr>
          <p:cNvPr id="632" name="矩形 6"/>
          <p:cNvSpPr/>
          <p:nvPr/>
        </p:nvSpPr>
        <p:spPr>
          <a:xfrm>
            <a:off x="684360" y="2060640"/>
            <a:ext cx="4967280" cy="64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禹治水十三年三次路过家门都不进去看一看，古时候有一个成语讲的就是禹的这种行为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——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三过家门而不入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3" name="矩形 1"/>
          <p:cNvSpPr/>
          <p:nvPr/>
        </p:nvSpPr>
        <p:spPr>
          <a:xfrm>
            <a:off x="581004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三过家门而不入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图片 3" descr=""/>
          <p:cNvPicPr/>
          <p:nvPr/>
        </p:nvPicPr>
        <p:blipFill>
          <a:blip r:embed="rId1"/>
          <a:stretch/>
        </p:blipFill>
        <p:spPr>
          <a:xfrm>
            <a:off x="2268360" y="1116000"/>
            <a:ext cx="6572520" cy="4753080"/>
          </a:xfrm>
          <a:prstGeom prst="rect">
            <a:avLst/>
          </a:prstGeom>
          <a:ln w="0">
            <a:noFill/>
          </a:ln>
        </p:spPr>
      </p:pic>
      <p:sp>
        <p:nvSpPr>
          <p:cNvPr id="635" name="矩形 6"/>
          <p:cNvSpPr/>
          <p:nvPr/>
        </p:nvSpPr>
        <p:spPr>
          <a:xfrm>
            <a:off x="611280" y="1370160"/>
            <a:ext cx="7848360" cy="326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禹第一次路过家门的时候，听见孩子呱呱的哭声，他</a:t>
            </a:r>
            <a:r>
              <a:rPr b="0" i="1" lang="en-US" sz="36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……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禹第二次路过家门的时候，听见妻子在教儿子叫爸爸的时候，他</a:t>
            </a:r>
            <a:r>
              <a:rPr b="0" i="1" lang="en-US" sz="36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……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禹第三次路过家门的时候，看见白发苍苍的老母亲站在家门口，好像盼着他回来，他</a:t>
            </a:r>
            <a:r>
              <a:rPr b="0" i="1" lang="en-US" sz="36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……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矩形 1"/>
          <p:cNvSpPr/>
          <p:nvPr/>
        </p:nvSpPr>
        <p:spPr>
          <a:xfrm>
            <a:off x="581004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华文彩云"/>
                <a:ea typeface="华文彩云"/>
              </a:rPr>
              <a:t>三过家门而不入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7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华文彩云"/>
                <a:ea typeface="华文彩云"/>
              </a:rPr>
              <a:t>讲一讲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68000" y="1341360"/>
            <a:ext cx="8496360" cy="452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800" spc="-1" strike="noStrike">
                <a:solidFill>
                  <a:srgbClr val="0000cc"/>
                </a:solidFill>
                <a:latin typeface="华文彩云"/>
                <a:ea typeface="华文彩云"/>
              </a:rPr>
              <a:t>提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洪水使人们生活痛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鲧用筑坝挡水的办法没有治好洪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大禹治水，三过家门而不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大禹用开通河道的办法，带领人们治好了洪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标题 1"/>
          <p:cNvSpPr/>
          <p:nvPr/>
        </p:nvSpPr>
        <p:spPr>
          <a:xfrm>
            <a:off x="611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第一课时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8360" y="12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cc"/>
                </a:solidFill>
                <a:latin typeface="华文彩云"/>
                <a:ea typeface="华文彩云"/>
              </a:rPr>
              <a:t>作业超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887400" y="2346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把《大禹治水》的故事讲给别人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搜集有关古代领袖的故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搜集有关大禹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图片 1" descr=""/>
          <p:cNvPicPr/>
          <p:nvPr/>
        </p:nvPicPr>
        <p:blipFill>
          <a:blip r:embed="rId1"/>
          <a:stretch/>
        </p:blipFill>
        <p:spPr>
          <a:xfrm>
            <a:off x="5148360" y="2565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42" name="矩形 2"/>
          <p:cNvSpPr/>
          <p:nvPr/>
        </p:nvSpPr>
        <p:spPr>
          <a:xfrm>
            <a:off x="3060000" y="225432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3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再见</a:t>
            </a:r>
            <a:endParaRPr b="0" i="1" lang="en-US" sz="1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1"/>
          <p:cNvSpPr/>
          <p:nvPr/>
        </p:nvSpPr>
        <p:spPr>
          <a:xfrm>
            <a:off x="5524920" y="33336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ff33cc"/>
                </a:solidFill>
                <a:uFillTx/>
                <a:latin typeface="华文彩云"/>
                <a:ea typeface="华文彩云"/>
              </a:rPr>
              <a:t>借助拼音，练读课文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0" name="矩形 2"/>
          <p:cNvSpPr/>
          <p:nvPr/>
        </p:nvSpPr>
        <p:spPr>
          <a:xfrm>
            <a:off x="395280" y="1989000"/>
            <a:ext cx="8353440" cy="32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借助拼音，轻声自由练读课文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第一遍时，在生字下面做“△”记号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第二遍时，生字重点拼读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第三遍时，在难读的句子下面画“——”线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第四遍时，标上自然段序号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1" name="矩形 4"/>
          <p:cNvSpPr/>
          <p:nvPr/>
        </p:nvSpPr>
        <p:spPr>
          <a:xfrm>
            <a:off x="957960" y="1122480"/>
            <a:ext cx="140004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华文彩云"/>
                <a:ea typeface="华文彩云"/>
              </a:rPr>
              <a:t>阅读提示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矩形 5"/>
          <p:cNvSpPr/>
          <p:nvPr/>
        </p:nvSpPr>
        <p:spPr>
          <a:xfrm>
            <a:off x="1226160" y="1484280"/>
            <a:ext cx="7199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h</a:t>
            </a:r>
            <a:r>
              <a:rPr b="0" i="1" lang="zh-CN" sz="6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ó</a:t>
            </a:r>
            <a:r>
              <a:rPr b="0" i="1" lang="en-US" sz="6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n</a:t>
            </a:r>
            <a:r>
              <a:rPr b="0" i="1" lang="zh-CN" sz="6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ɡ</a:t>
            </a:r>
            <a:r>
              <a:rPr b="0" i="1" lang="en-US" sz="6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  </a:t>
            </a:r>
            <a:r>
              <a:rPr b="0" i="1" lang="en-US" sz="6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z</a:t>
            </a: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ā</a:t>
            </a:r>
            <a:r>
              <a:rPr b="0" i="1" lang="en-US" sz="6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i   n</a:t>
            </a:r>
            <a:r>
              <a:rPr b="0" i="1" lang="zh-CN" sz="6600" spc="-1" strike="noStrike" u="sng">
                <a:solidFill>
                  <a:srgbClr val="0000cc"/>
                </a:solidFill>
                <a:uFillTx/>
                <a:latin typeface="Calibri"/>
                <a:ea typeface="宋体"/>
              </a:rPr>
              <a:t>à</a:t>
            </a:r>
            <a:r>
              <a:rPr b="0" i="1" lang="en-US" sz="6600" spc="-1" strike="noStrike" u="sng">
                <a:solidFill>
                  <a:srgbClr val="0000cc"/>
                </a:solidFill>
                <a:uFillTx/>
                <a:latin typeface="Calibri"/>
                <a:ea typeface="宋体"/>
              </a:rPr>
              <a:t>n   </a:t>
            </a:r>
            <a:r>
              <a:rPr b="0" i="1" lang="en-US" sz="6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d</a:t>
            </a: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à</a:t>
            </a:r>
            <a:r>
              <a:rPr b="0" i="1" lang="en-US" sz="6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o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洪       灾    难     道 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r</a:t>
            </a:r>
            <a:r>
              <a:rPr b="0" i="1" lang="zh-CN" sz="6600" spc="-1" strike="noStrike" u="sng">
                <a:solidFill>
                  <a:srgbClr val="0000cc"/>
                </a:solidFill>
                <a:uFillTx/>
                <a:latin typeface="Calibri"/>
                <a:ea typeface="宋体"/>
              </a:rPr>
              <a:t>è</a:t>
            </a:r>
            <a:r>
              <a:rPr b="0" i="1" lang="en-US" sz="6600" spc="-1" strike="noStrike" u="sng">
                <a:solidFill>
                  <a:srgbClr val="0000cc"/>
                </a:solidFill>
                <a:uFillTx/>
                <a:latin typeface="Calibri"/>
                <a:ea typeface="宋体"/>
              </a:rPr>
              <a:t>n   </a:t>
            </a:r>
            <a:r>
              <a:rPr b="0" i="1" lang="en-US" sz="6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b</a:t>
            </a: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è</a:t>
            </a:r>
            <a:r>
              <a:rPr b="0" i="1" lang="en-US" sz="6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i      y</a:t>
            </a: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è</a:t>
            </a:r>
            <a:r>
              <a:rPr b="0" i="1" lang="en-US" sz="6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ch</a:t>
            </a:r>
            <a:r>
              <a:rPr b="0" i="1" lang="zh-CN" sz="6600" spc="-1" strike="noStrike" u="sng">
                <a:solidFill>
                  <a:srgbClr val="0000cc"/>
                </a:solidFill>
                <a:uFillTx/>
                <a:latin typeface="Calibri"/>
                <a:ea typeface="宋体"/>
              </a:rPr>
              <a:t>ǎ</a:t>
            </a:r>
            <a:r>
              <a:rPr b="0" i="1" lang="en-US" sz="6600" spc="-1" strike="noStrike" u="sng">
                <a:solidFill>
                  <a:srgbClr val="0000cc"/>
                </a:solidFill>
                <a:uFillTx/>
                <a:latin typeface="Calibri"/>
                <a:ea typeface="宋体"/>
              </a:rPr>
              <a:t>n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认     被       业     产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3" name="矩形 17"/>
          <p:cNvSpPr/>
          <p:nvPr/>
        </p:nvSpPr>
        <p:spPr>
          <a:xfrm>
            <a:off x="599040" y="1268280"/>
            <a:ext cx="2952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68360" y="2060280"/>
            <a:ext cx="822960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洪水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毒蛇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猛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灾难 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消退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继续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伤害 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恢复 </a:t>
            </a: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耕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1042920" y="2276640"/>
            <a:ext cx="6842160" cy="722160"/>
          </a:xfrm>
          <a:prstGeom prst="rect">
            <a:avLst/>
          </a:prstGeom>
          <a:solidFill>
            <a:srgbClr val="ffffff"/>
          </a:solidFill>
          <a:ln w="12600">
            <a:solidFill>
              <a:srgbClr val="c2c1d3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cc"/>
                </a:solidFill>
                <a:latin typeface="楷体"/>
                <a:ea typeface="楷体"/>
              </a:rPr>
              <a:t>本文讲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4"/>
          <p:cNvSpPr/>
          <p:nvPr/>
        </p:nvSpPr>
        <p:spPr>
          <a:xfrm>
            <a:off x="684360" y="364500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———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带领大家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——————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的事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矩形 8"/>
          <p:cNvSpPr/>
          <p:nvPr/>
        </p:nvSpPr>
        <p:spPr>
          <a:xfrm>
            <a:off x="6438240" y="455760"/>
            <a:ext cx="1521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写字有方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18" name="Group 29"/>
          <p:cNvGrpSpPr/>
          <p:nvPr/>
        </p:nvGrpSpPr>
        <p:grpSpPr>
          <a:xfrm>
            <a:off x="476280" y="1498680"/>
            <a:ext cx="1988640" cy="1929960"/>
            <a:chOff x="476280" y="1498680"/>
            <a:chExt cx="1988640" cy="1929960"/>
          </a:xfrm>
        </p:grpSpPr>
        <p:sp>
          <p:nvSpPr>
            <p:cNvPr id="519" name="Rectangle 30"/>
            <p:cNvSpPr/>
            <p:nvPr/>
          </p:nvSpPr>
          <p:spPr>
            <a:xfrm>
              <a:off x="1470960" y="2455920"/>
              <a:ext cx="993960" cy="9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0" name="Rectangle 31"/>
            <p:cNvSpPr/>
            <p:nvPr/>
          </p:nvSpPr>
          <p:spPr>
            <a:xfrm>
              <a:off x="476280" y="2455920"/>
              <a:ext cx="994680" cy="9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1" name="Rectangle 32"/>
            <p:cNvSpPr/>
            <p:nvPr/>
          </p:nvSpPr>
          <p:spPr>
            <a:xfrm>
              <a:off x="1470960" y="1498680"/>
              <a:ext cx="99396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2" name="Rectangle 33"/>
            <p:cNvSpPr/>
            <p:nvPr/>
          </p:nvSpPr>
          <p:spPr>
            <a:xfrm>
              <a:off x="476280" y="1498680"/>
              <a:ext cx="9946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3" name="Line 34"/>
            <p:cNvSpPr/>
            <p:nvPr/>
          </p:nvSpPr>
          <p:spPr>
            <a:xfrm>
              <a:off x="476280" y="1498680"/>
              <a:ext cx="198864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4" name="Line 35"/>
            <p:cNvSpPr/>
            <p:nvPr/>
          </p:nvSpPr>
          <p:spPr>
            <a:xfrm>
              <a:off x="476280" y="2455920"/>
              <a:ext cx="1988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5" name="Line 36"/>
            <p:cNvSpPr/>
            <p:nvPr/>
          </p:nvSpPr>
          <p:spPr>
            <a:xfrm>
              <a:off x="476280" y="3428640"/>
              <a:ext cx="198864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6" name="Line 37"/>
            <p:cNvSpPr/>
            <p:nvPr/>
          </p:nvSpPr>
          <p:spPr>
            <a:xfrm>
              <a:off x="476280" y="1498680"/>
              <a:ext cx="0" cy="19299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7" name="Line 38"/>
            <p:cNvSpPr/>
            <p:nvPr/>
          </p:nvSpPr>
          <p:spPr>
            <a:xfrm>
              <a:off x="1470960" y="1498680"/>
              <a:ext cx="0" cy="1929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8" name="Line 39"/>
            <p:cNvSpPr/>
            <p:nvPr/>
          </p:nvSpPr>
          <p:spPr>
            <a:xfrm>
              <a:off x="2464920" y="1498680"/>
              <a:ext cx="0" cy="19299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29" name="Text Box 40"/>
          <p:cNvSpPr/>
          <p:nvPr/>
        </p:nvSpPr>
        <p:spPr>
          <a:xfrm>
            <a:off x="620640" y="1413000"/>
            <a:ext cx="2000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5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洪  </a:t>
            </a:r>
            <a:endParaRPr b="0" i="1" lang="en-US" sz="115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30" name="Group 29"/>
          <p:cNvGrpSpPr/>
          <p:nvPr/>
        </p:nvGrpSpPr>
        <p:grpSpPr>
          <a:xfrm>
            <a:off x="2556000" y="1498680"/>
            <a:ext cx="1988640" cy="1929960"/>
            <a:chOff x="2556000" y="1498680"/>
            <a:chExt cx="1988640" cy="1929960"/>
          </a:xfrm>
        </p:grpSpPr>
        <p:sp>
          <p:nvSpPr>
            <p:cNvPr id="531" name="Rectangle 30"/>
            <p:cNvSpPr/>
            <p:nvPr/>
          </p:nvSpPr>
          <p:spPr>
            <a:xfrm>
              <a:off x="3550680" y="2455920"/>
              <a:ext cx="993960" cy="9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2" name="Rectangle 31"/>
            <p:cNvSpPr/>
            <p:nvPr/>
          </p:nvSpPr>
          <p:spPr>
            <a:xfrm>
              <a:off x="2556000" y="2455920"/>
              <a:ext cx="994680" cy="9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3" name="Rectangle 32"/>
            <p:cNvSpPr/>
            <p:nvPr/>
          </p:nvSpPr>
          <p:spPr>
            <a:xfrm>
              <a:off x="3550680" y="1498680"/>
              <a:ext cx="99396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4" name="Rectangle 33"/>
            <p:cNvSpPr/>
            <p:nvPr/>
          </p:nvSpPr>
          <p:spPr>
            <a:xfrm>
              <a:off x="2556000" y="1498680"/>
              <a:ext cx="9946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5" name="Line 34"/>
            <p:cNvSpPr/>
            <p:nvPr/>
          </p:nvSpPr>
          <p:spPr>
            <a:xfrm>
              <a:off x="2556000" y="1498680"/>
              <a:ext cx="198864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6" name="Line 35"/>
            <p:cNvSpPr/>
            <p:nvPr/>
          </p:nvSpPr>
          <p:spPr>
            <a:xfrm>
              <a:off x="2556000" y="2455920"/>
              <a:ext cx="1988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7" name="Line 36"/>
            <p:cNvSpPr/>
            <p:nvPr/>
          </p:nvSpPr>
          <p:spPr>
            <a:xfrm>
              <a:off x="2556000" y="3428640"/>
              <a:ext cx="198864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8" name="Line 37"/>
            <p:cNvSpPr/>
            <p:nvPr/>
          </p:nvSpPr>
          <p:spPr>
            <a:xfrm>
              <a:off x="2556000" y="1498680"/>
              <a:ext cx="0" cy="19299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9" name="Line 38"/>
            <p:cNvSpPr/>
            <p:nvPr/>
          </p:nvSpPr>
          <p:spPr>
            <a:xfrm>
              <a:off x="3550680" y="1498680"/>
              <a:ext cx="0" cy="1929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0" name="Line 39"/>
            <p:cNvSpPr/>
            <p:nvPr/>
          </p:nvSpPr>
          <p:spPr>
            <a:xfrm>
              <a:off x="4544640" y="1498680"/>
              <a:ext cx="0" cy="19299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1" name="Text Box 40"/>
          <p:cNvSpPr/>
          <p:nvPr/>
        </p:nvSpPr>
        <p:spPr>
          <a:xfrm>
            <a:off x="2736720" y="1413000"/>
            <a:ext cx="20005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5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灾</a:t>
            </a:r>
            <a:endParaRPr b="0" i="1" lang="en-US" sz="115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42" name="Group 29"/>
          <p:cNvGrpSpPr/>
          <p:nvPr/>
        </p:nvGrpSpPr>
        <p:grpSpPr>
          <a:xfrm>
            <a:off x="4595760" y="1498680"/>
            <a:ext cx="1989000" cy="1929960"/>
            <a:chOff x="4595760" y="1498680"/>
            <a:chExt cx="1989000" cy="1929960"/>
          </a:xfrm>
        </p:grpSpPr>
        <p:sp>
          <p:nvSpPr>
            <p:cNvPr id="543" name="Rectangle 30"/>
            <p:cNvSpPr/>
            <p:nvPr/>
          </p:nvSpPr>
          <p:spPr>
            <a:xfrm>
              <a:off x="5590440" y="2455920"/>
              <a:ext cx="994320" cy="9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4" name="Rectangle 31"/>
            <p:cNvSpPr/>
            <p:nvPr/>
          </p:nvSpPr>
          <p:spPr>
            <a:xfrm>
              <a:off x="4595760" y="2455920"/>
              <a:ext cx="994680" cy="9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5" name="Rectangle 32"/>
            <p:cNvSpPr/>
            <p:nvPr/>
          </p:nvSpPr>
          <p:spPr>
            <a:xfrm>
              <a:off x="5590440" y="1498680"/>
              <a:ext cx="99432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6" name="Rectangle 33"/>
            <p:cNvSpPr/>
            <p:nvPr/>
          </p:nvSpPr>
          <p:spPr>
            <a:xfrm>
              <a:off x="4595760" y="1498680"/>
              <a:ext cx="9946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7" name="Line 34"/>
            <p:cNvSpPr/>
            <p:nvPr/>
          </p:nvSpPr>
          <p:spPr>
            <a:xfrm>
              <a:off x="4595760" y="1498680"/>
              <a:ext cx="19890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8" name="Line 35"/>
            <p:cNvSpPr/>
            <p:nvPr/>
          </p:nvSpPr>
          <p:spPr>
            <a:xfrm>
              <a:off x="4595760" y="2455920"/>
              <a:ext cx="1989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9" name="Line 36"/>
            <p:cNvSpPr/>
            <p:nvPr/>
          </p:nvSpPr>
          <p:spPr>
            <a:xfrm>
              <a:off x="4595760" y="3428640"/>
              <a:ext cx="19890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0" name="Line 37"/>
            <p:cNvSpPr/>
            <p:nvPr/>
          </p:nvSpPr>
          <p:spPr>
            <a:xfrm>
              <a:off x="4595760" y="1498680"/>
              <a:ext cx="0" cy="19299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1" name="Line 38"/>
            <p:cNvSpPr/>
            <p:nvPr/>
          </p:nvSpPr>
          <p:spPr>
            <a:xfrm>
              <a:off x="5590440" y="1498680"/>
              <a:ext cx="0" cy="1929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2" name="Line 39"/>
            <p:cNvSpPr/>
            <p:nvPr/>
          </p:nvSpPr>
          <p:spPr>
            <a:xfrm>
              <a:off x="6584760" y="1498680"/>
              <a:ext cx="0" cy="19299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3" name="Text Box 40"/>
          <p:cNvSpPr/>
          <p:nvPr/>
        </p:nvSpPr>
        <p:spPr>
          <a:xfrm>
            <a:off x="4732200" y="1413000"/>
            <a:ext cx="20005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5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难 </a:t>
            </a:r>
            <a:endParaRPr b="0" i="1" lang="en-US" sz="115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54" name="Group 29"/>
          <p:cNvGrpSpPr/>
          <p:nvPr/>
        </p:nvGrpSpPr>
        <p:grpSpPr>
          <a:xfrm>
            <a:off x="6702480" y="1498680"/>
            <a:ext cx="1988640" cy="1929960"/>
            <a:chOff x="6702480" y="1498680"/>
            <a:chExt cx="1988640" cy="1929960"/>
          </a:xfrm>
        </p:grpSpPr>
        <p:sp>
          <p:nvSpPr>
            <p:cNvPr id="555" name="Rectangle 30"/>
            <p:cNvSpPr/>
            <p:nvPr/>
          </p:nvSpPr>
          <p:spPr>
            <a:xfrm>
              <a:off x="7697160" y="2455920"/>
              <a:ext cx="993960" cy="9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6" name="Rectangle 31"/>
            <p:cNvSpPr/>
            <p:nvPr/>
          </p:nvSpPr>
          <p:spPr>
            <a:xfrm>
              <a:off x="6702480" y="2455920"/>
              <a:ext cx="994680" cy="9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7" name="Rectangle 32"/>
            <p:cNvSpPr/>
            <p:nvPr/>
          </p:nvSpPr>
          <p:spPr>
            <a:xfrm>
              <a:off x="7697160" y="1498680"/>
              <a:ext cx="99396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8" name="Rectangle 33"/>
            <p:cNvSpPr/>
            <p:nvPr/>
          </p:nvSpPr>
          <p:spPr>
            <a:xfrm>
              <a:off x="6702480" y="1498680"/>
              <a:ext cx="9946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9" name="Line 34"/>
            <p:cNvSpPr/>
            <p:nvPr/>
          </p:nvSpPr>
          <p:spPr>
            <a:xfrm>
              <a:off x="6702480" y="1498680"/>
              <a:ext cx="198864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0" name="Line 35"/>
            <p:cNvSpPr/>
            <p:nvPr/>
          </p:nvSpPr>
          <p:spPr>
            <a:xfrm>
              <a:off x="6702480" y="2455920"/>
              <a:ext cx="1988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1" name="Line 36"/>
            <p:cNvSpPr/>
            <p:nvPr/>
          </p:nvSpPr>
          <p:spPr>
            <a:xfrm>
              <a:off x="6702480" y="3428640"/>
              <a:ext cx="198864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2" name="Line 37"/>
            <p:cNvSpPr/>
            <p:nvPr/>
          </p:nvSpPr>
          <p:spPr>
            <a:xfrm>
              <a:off x="6702480" y="1498680"/>
              <a:ext cx="0" cy="19299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3" name="Line 38"/>
            <p:cNvSpPr/>
            <p:nvPr/>
          </p:nvSpPr>
          <p:spPr>
            <a:xfrm>
              <a:off x="7697160" y="1498680"/>
              <a:ext cx="0" cy="1929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4" name="Line 39"/>
            <p:cNvSpPr/>
            <p:nvPr/>
          </p:nvSpPr>
          <p:spPr>
            <a:xfrm>
              <a:off x="8691120" y="1498680"/>
              <a:ext cx="0" cy="192996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65" name="Text Box 40"/>
          <p:cNvSpPr/>
          <p:nvPr/>
        </p:nvSpPr>
        <p:spPr>
          <a:xfrm>
            <a:off x="6838920" y="1413000"/>
            <a:ext cx="2000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5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道</a:t>
            </a:r>
            <a:endParaRPr b="0" i="1" lang="en-US" sz="115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66" name="Group 29"/>
          <p:cNvGrpSpPr/>
          <p:nvPr/>
        </p:nvGrpSpPr>
        <p:grpSpPr>
          <a:xfrm>
            <a:off x="506520" y="3933720"/>
            <a:ext cx="1988640" cy="1928520"/>
            <a:chOff x="506520" y="3933720"/>
            <a:chExt cx="1988640" cy="1928520"/>
          </a:xfrm>
        </p:grpSpPr>
        <p:sp>
          <p:nvSpPr>
            <p:cNvPr id="567" name="Rectangle 30"/>
            <p:cNvSpPr/>
            <p:nvPr/>
          </p:nvSpPr>
          <p:spPr>
            <a:xfrm>
              <a:off x="1501200" y="4890240"/>
              <a:ext cx="993960" cy="9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8" name="Rectangle 31"/>
            <p:cNvSpPr/>
            <p:nvPr/>
          </p:nvSpPr>
          <p:spPr>
            <a:xfrm>
              <a:off x="506520" y="4890240"/>
              <a:ext cx="994680" cy="9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9" name="Rectangle 32"/>
            <p:cNvSpPr/>
            <p:nvPr/>
          </p:nvSpPr>
          <p:spPr>
            <a:xfrm>
              <a:off x="1501200" y="3933720"/>
              <a:ext cx="99396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0" name="Rectangle 33"/>
            <p:cNvSpPr/>
            <p:nvPr/>
          </p:nvSpPr>
          <p:spPr>
            <a:xfrm>
              <a:off x="506520" y="3933720"/>
              <a:ext cx="99468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1" name="Line 34"/>
            <p:cNvSpPr/>
            <p:nvPr/>
          </p:nvSpPr>
          <p:spPr>
            <a:xfrm>
              <a:off x="506520" y="3933720"/>
              <a:ext cx="198864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2" name="Line 35"/>
            <p:cNvSpPr/>
            <p:nvPr/>
          </p:nvSpPr>
          <p:spPr>
            <a:xfrm>
              <a:off x="506520" y="4890240"/>
              <a:ext cx="1988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3" name="Line 36"/>
            <p:cNvSpPr/>
            <p:nvPr/>
          </p:nvSpPr>
          <p:spPr>
            <a:xfrm>
              <a:off x="506520" y="5862240"/>
              <a:ext cx="198864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4" name="Line 37"/>
            <p:cNvSpPr/>
            <p:nvPr/>
          </p:nvSpPr>
          <p:spPr>
            <a:xfrm>
              <a:off x="506520" y="3933720"/>
              <a:ext cx="0" cy="192852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5" name="Line 38"/>
            <p:cNvSpPr/>
            <p:nvPr/>
          </p:nvSpPr>
          <p:spPr>
            <a:xfrm>
              <a:off x="1501200" y="3933720"/>
              <a:ext cx="0" cy="1928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6" name="Line 39"/>
            <p:cNvSpPr/>
            <p:nvPr/>
          </p:nvSpPr>
          <p:spPr>
            <a:xfrm>
              <a:off x="2495160" y="3933720"/>
              <a:ext cx="0" cy="192852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7" name="Text Box 40"/>
          <p:cNvSpPr/>
          <p:nvPr/>
        </p:nvSpPr>
        <p:spPr>
          <a:xfrm>
            <a:off x="650880" y="3846600"/>
            <a:ext cx="2000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5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认</a:t>
            </a:r>
            <a:endParaRPr b="0" i="1" lang="en-US" sz="115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78" name="Group 29"/>
          <p:cNvGrpSpPr/>
          <p:nvPr/>
        </p:nvGrpSpPr>
        <p:grpSpPr>
          <a:xfrm>
            <a:off x="2585880" y="3933720"/>
            <a:ext cx="1989000" cy="1928520"/>
            <a:chOff x="2585880" y="3933720"/>
            <a:chExt cx="1989000" cy="1928520"/>
          </a:xfrm>
        </p:grpSpPr>
        <p:sp>
          <p:nvSpPr>
            <p:cNvPr id="579" name="Rectangle 30"/>
            <p:cNvSpPr/>
            <p:nvPr/>
          </p:nvSpPr>
          <p:spPr>
            <a:xfrm>
              <a:off x="3580560" y="4890240"/>
              <a:ext cx="994320" cy="9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0" name="Rectangle 31"/>
            <p:cNvSpPr/>
            <p:nvPr/>
          </p:nvSpPr>
          <p:spPr>
            <a:xfrm>
              <a:off x="2585880" y="4890240"/>
              <a:ext cx="994680" cy="9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1" name="Rectangle 32"/>
            <p:cNvSpPr/>
            <p:nvPr/>
          </p:nvSpPr>
          <p:spPr>
            <a:xfrm>
              <a:off x="3580560" y="3933720"/>
              <a:ext cx="994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2" name="Rectangle 33"/>
            <p:cNvSpPr/>
            <p:nvPr/>
          </p:nvSpPr>
          <p:spPr>
            <a:xfrm>
              <a:off x="2585880" y="3933720"/>
              <a:ext cx="99468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3" name="Line 34"/>
            <p:cNvSpPr/>
            <p:nvPr/>
          </p:nvSpPr>
          <p:spPr>
            <a:xfrm>
              <a:off x="2585880" y="3933720"/>
              <a:ext cx="19890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4" name="Line 35"/>
            <p:cNvSpPr/>
            <p:nvPr/>
          </p:nvSpPr>
          <p:spPr>
            <a:xfrm>
              <a:off x="2585880" y="4890240"/>
              <a:ext cx="1989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5" name="Line 36"/>
            <p:cNvSpPr/>
            <p:nvPr/>
          </p:nvSpPr>
          <p:spPr>
            <a:xfrm>
              <a:off x="2585880" y="5862240"/>
              <a:ext cx="19890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6" name="Line 37"/>
            <p:cNvSpPr/>
            <p:nvPr/>
          </p:nvSpPr>
          <p:spPr>
            <a:xfrm>
              <a:off x="2585880" y="3933720"/>
              <a:ext cx="0" cy="192852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7" name="Line 38"/>
            <p:cNvSpPr/>
            <p:nvPr/>
          </p:nvSpPr>
          <p:spPr>
            <a:xfrm>
              <a:off x="3580560" y="3933720"/>
              <a:ext cx="0" cy="1928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8" name="Line 39"/>
            <p:cNvSpPr/>
            <p:nvPr/>
          </p:nvSpPr>
          <p:spPr>
            <a:xfrm>
              <a:off x="4574880" y="3933720"/>
              <a:ext cx="0" cy="192852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89" name="Text Box 40"/>
          <p:cNvSpPr/>
          <p:nvPr/>
        </p:nvSpPr>
        <p:spPr>
          <a:xfrm>
            <a:off x="2766960" y="3846600"/>
            <a:ext cx="2000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5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被 </a:t>
            </a:r>
            <a:endParaRPr b="0" i="1" lang="en-US" sz="115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90" name="Group 29"/>
          <p:cNvGrpSpPr/>
          <p:nvPr/>
        </p:nvGrpSpPr>
        <p:grpSpPr>
          <a:xfrm>
            <a:off x="4626000" y="3933720"/>
            <a:ext cx="1988640" cy="1928520"/>
            <a:chOff x="4626000" y="3933720"/>
            <a:chExt cx="1988640" cy="1928520"/>
          </a:xfrm>
        </p:grpSpPr>
        <p:sp>
          <p:nvSpPr>
            <p:cNvPr id="591" name="Rectangle 30"/>
            <p:cNvSpPr/>
            <p:nvPr/>
          </p:nvSpPr>
          <p:spPr>
            <a:xfrm>
              <a:off x="5620680" y="4890240"/>
              <a:ext cx="993960" cy="9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2" name="Rectangle 31"/>
            <p:cNvSpPr/>
            <p:nvPr/>
          </p:nvSpPr>
          <p:spPr>
            <a:xfrm>
              <a:off x="4626000" y="4890240"/>
              <a:ext cx="994680" cy="9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3" name="Rectangle 32"/>
            <p:cNvSpPr/>
            <p:nvPr/>
          </p:nvSpPr>
          <p:spPr>
            <a:xfrm>
              <a:off x="5620680" y="3933720"/>
              <a:ext cx="99396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4" name="Rectangle 33"/>
            <p:cNvSpPr/>
            <p:nvPr/>
          </p:nvSpPr>
          <p:spPr>
            <a:xfrm>
              <a:off x="4626000" y="3933720"/>
              <a:ext cx="99468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5" name="Line 34"/>
            <p:cNvSpPr/>
            <p:nvPr/>
          </p:nvSpPr>
          <p:spPr>
            <a:xfrm>
              <a:off x="4626000" y="3933720"/>
              <a:ext cx="198864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6" name="Line 35"/>
            <p:cNvSpPr/>
            <p:nvPr/>
          </p:nvSpPr>
          <p:spPr>
            <a:xfrm>
              <a:off x="4626000" y="4890240"/>
              <a:ext cx="1988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7" name="Line 36"/>
            <p:cNvSpPr/>
            <p:nvPr/>
          </p:nvSpPr>
          <p:spPr>
            <a:xfrm>
              <a:off x="4626000" y="5862240"/>
              <a:ext cx="198864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8" name="Line 37"/>
            <p:cNvSpPr/>
            <p:nvPr/>
          </p:nvSpPr>
          <p:spPr>
            <a:xfrm>
              <a:off x="4626000" y="3933720"/>
              <a:ext cx="0" cy="192852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9" name="Line 38"/>
            <p:cNvSpPr/>
            <p:nvPr/>
          </p:nvSpPr>
          <p:spPr>
            <a:xfrm>
              <a:off x="5620680" y="3933720"/>
              <a:ext cx="0" cy="1928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0" name="Line 39"/>
            <p:cNvSpPr/>
            <p:nvPr/>
          </p:nvSpPr>
          <p:spPr>
            <a:xfrm>
              <a:off x="6614640" y="3933720"/>
              <a:ext cx="0" cy="192852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01" name="Text Box 40"/>
          <p:cNvSpPr/>
          <p:nvPr/>
        </p:nvSpPr>
        <p:spPr>
          <a:xfrm>
            <a:off x="4762440" y="3846600"/>
            <a:ext cx="2000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5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业</a:t>
            </a:r>
            <a:endParaRPr b="0" i="1" lang="en-US" sz="115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02" name="Group 29"/>
          <p:cNvGrpSpPr/>
          <p:nvPr/>
        </p:nvGrpSpPr>
        <p:grpSpPr>
          <a:xfrm>
            <a:off x="6732720" y="3933720"/>
            <a:ext cx="1988640" cy="1928520"/>
            <a:chOff x="6732720" y="3933720"/>
            <a:chExt cx="1988640" cy="1928520"/>
          </a:xfrm>
        </p:grpSpPr>
        <p:sp>
          <p:nvSpPr>
            <p:cNvPr id="603" name="Rectangle 30"/>
            <p:cNvSpPr/>
            <p:nvPr/>
          </p:nvSpPr>
          <p:spPr>
            <a:xfrm>
              <a:off x="7727400" y="4890240"/>
              <a:ext cx="993960" cy="9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4" name="Rectangle 31"/>
            <p:cNvSpPr/>
            <p:nvPr/>
          </p:nvSpPr>
          <p:spPr>
            <a:xfrm>
              <a:off x="6732720" y="4890240"/>
              <a:ext cx="994680" cy="9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5" name="Rectangle 32"/>
            <p:cNvSpPr/>
            <p:nvPr/>
          </p:nvSpPr>
          <p:spPr>
            <a:xfrm>
              <a:off x="7727400" y="3933720"/>
              <a:ext cx="99396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6" name="Rectangle 33"/>
            <p:cNvSpPr/>
            <p:nvPr/>
          </p:nvSpPr>
          <p:spPr>
            <a:xfrm>
              <a:off x="6732720" y="3933720"/>
              <a:ext cx="99468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7" name="Line 34"/>
            <p:cNvSpPr/>
            <p:nvPr/>
          </p:nvSpPr>
          <p:spPr>
            <a:xfrm>
              <a:off x="6732720" y="3933720"/>
              <a:ext cx="198864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8" name="Line 35"/>
            <p:cNvSpPr/>
            <p:nvPr/>
          </p:nvSpPr>
          <p:spPr>
            <a:xfrm>
              <a:off x="6732720" y="4890240"/>
              <a:ext cx="1988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9" name="Line 36"/>
            <p:cNvSpPr/>
            <p:nvPr/>
          </p:nvSpPr>
          <p:spPr>
            <a:xfrm>
              <a:off x="6732720" y="5862240"/>
              <a:ext cx="198864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0" name="Line 37"/>
            <p:cNvSpPr/>
            <p:nvPr/>
          </p:nvSpPr>
          <p:spPr>
            <a:xfrm>
              <a:off x="6732720" y="3933720"/>
              <a:ext cx="0" cy="192852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1" name="Line 38"/>
            <p:cNvSpPr/>
            <p:nvPr/>
          </p:nvSpPr>
          <p:spPr>
            <a:xfrm>
              <a:off x="7727400" y="3933720"/>
              <a:ext cx="0" cy="1928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2" name="Line 39"/>
            <p:cNvSpPr/>
            <p:nvPr/>
          </p:nvSpPr>
          <p:spPr>
            <a:xfrm>
              <a:off x="8721360" y="3933720"/>
              <a:ext cx="0" cy="192852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13" name="Text Box 40"/>
          <p:cNvSpPr/>
          <p:nvPr/>
        </p:nvSpPr>
        <p:spPr>
          <a:xfrm>
            <a:off x="6869160" y="3846600"/>
            <a:ext cx="2000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5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产 </a:t>
            </a:r>
            <a:endParaRPr b="0" i="1" lang="en-US" sz="115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矩形 5"/>
          <p:cNvSpPr/>
          <p:nvPr/>
        </p:nvSpPr>
        <p:spPr>
          <a:xfrm>
            <a:off x="971640" y="1268280"/>
            <a:ext cx="7397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cc"/>
                </a:solidFill>
                <a:uFillTx/>
                <a:latin typeface="楷体"/>
                <a:ea typeface="楷体"/>
              </a:rPr>
              <a:t>怎样才能写出一手好字？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5" name="矩形 3"/>
          <p:cNvSpPr/>
          <p:nvPr/>
        </p:nvSpPr>
        <p:spPr>
          <a:xfrm>
            <a:off x="879480" y="1700280"/>
            <a:ext cx="859464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看准每个字在田字格里的位置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看清每个字的结构，放慢速度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严格按笔顺描写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19T00:50:13Z</dcterms:created>
  <dc:creator/>
  <dc:description/>
  <dc:language>en-US</dc:language>
  <cp:lastModifiedBy>万润仪器贸易公司</cp:lastModifiedBy>
  <dcterms:modified xsi:type="dcterms:W3CDTF">2020-08-19T00:50:1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